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88CC-7E20-47A8-BBA0-02172C3FF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8EF5-E18A-425A-9BE2-82565685E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EAA4-9CD3-4FCE-83FD-5F097B5BD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14E2-A749-4A7B-9D70-B0AF0C444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5692-FA18-44C0-A534-CE5057015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9F56-5322-4985-837E-EEBF3F5F7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9ABE-7163-40A0-8C5F-6D73DD237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D88F-1BEF-4DF5-87BA-798E64960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E094-D821-4643-8809-44893C9B4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CCAA-B655-436A-B2DB-451015827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843F-DE5D-459C-AB38-9F20B6380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932D-9312-4A91-B422-2C5070113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B8AF1-12B6-4090-8CD1-708999E1AF4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28120" y="1643040"/>
            <a:ext cx="5829480" cy="1960560"/>
          </a:xfrm>
          <a:prstGeom prst="rect">
            <a:avLst/>
          </a:prstGeom>
          <a:noFill/>
          <a:ln w="57240">
            <a:solidFill>
              <a:srgbClr val="7f7f7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Calibri"/>
              </a:rPr>
              <a:t>食物アレルギーは</a:t>
            </a:r>
            <a:br>
              <a:rPr sz="5400"/>
            </a:br>
            <a:r>
              <a:rPr b="0" lang="ja-JP" sz="5400" spc="-1" strike="noStrike">
                <a:solidFill>
                  <a:srgbClr val="000000"/>
                </a:solidFill>
                <a:latin typeface="Calibri"/>
              </a:rPr>
              <a:t>ありませんか？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0040" y="3714840"/>
            <a:ext cx="58579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ない　・　</a:t>
            </a:r>
            <a:r>
              <a:rPr b="0" lang="ja-JP" sz="3200" spc="-1" strike="noStrike" u="sng">
                <a:solidFill>
                  <a:srgbClr val="000000"/>
                </a:solidFill>
                <a:uFillTx/>
                <a:latin typeface="Calibri"/>
              </a:rPr>
              <a:t>あ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「ある」と回答された方は具体的にお答えください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Calibri"/>
              </a:rPr>
              <a:t>食べてはいけない食品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タイトル 1"/>
          <p:cNvSpPr/>
          <p:nvPr/>
        </p:nvSpPr>
        <p:spPr>
          <a:xfrm>
            <a:off x="2928960" y="428760"/>
            <a:ext cx="3571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記入日　　 （　　　　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　　　　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区画番号　（　　 　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　　     　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お名前　 　（　　　　　　　　       　）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図 4" descr="illust122.png"/>
          <p:cNvPicPr/>
          <p:nvPr/>
        </p:nvPicPr>
        <p:blipFill>
          <a:blip r:embed="rId1"/>
          <a:stretch/>
        </p:blipFill>
        <p:spPr>
          <a:xfrm>
            <a:off x="5072040" y="6572160"/>
            <a:ext cx="1285920" cy="2220840"/>
          </a:xfrm>
          <a:prstGeom prst="rect">
            <a:avLst/>
          </a:prstGeom>
          <a:ln w="0">
            <a:noFill/>
          </a:ln>
        </p:spPr>
      </p:pic>
      <p:cxnSp>
        <p:nvCxnSpPr>
          <p:cNvPr id="45" name="カギ線コネクタ 6"/>
          <p:cNvCxnSpPr/>
          <p:nvPr/>
        </p:nvCxnSpPr>
        <p:spPr>
          <a:xfrm rot="5400000">
            <a:off x="2270520" y="3108960"/>
            <a:ext cx="827640" cy="30614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5T00:26:58Z</dcterms:created>
  <dc:creator>pc-mnt</dc:creator>
  <dc:description/>
  <dc:language>en-US</dc:language>
  <cp:lastModifiedBy>kumamoto</cp:lastModifiedBy>
  <dcterms:modified xsi:type="dcterms:W3CDTF">2017-03-29T02:32:49Z</dcterms:modified>
  <cp:revision>3</cp:revision>
  <dc:subject/>
  <dc:title>食物アレルギーは ありませんか？</dc:title>
</cp:coreProperties>
</file>