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299-34EC-4675-8890-23AFA415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285-0739-4140-AC03-ACF9F102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684-F916-475E-99B3-78DFBF91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92A-55B5-4EFC-AB6C-3E87F7C8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580-3238-4F8C-976E-5D09A6D5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77C-F83C-4C12-8606-58B2B199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93F-00AD-431F-A40E-4BE9A2AA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EE4-5AF3-40D4-A931-82E842FB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83A-823C-44D1-9192-36283B2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567-A525-4A6F-A886-3683708B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A94-F076-418A-BF1F-F0EB8652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C87-CF33-4E0A-9E34-747899CA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3B64-FA18-4FD6-8FD1-55C76B673C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9000" y="36000"/>
            <a:ext cx="6480000" cy="863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配食をされる方へのお願いで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4640" y="973080"/>
            <a:ext cx="36720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気温が高くなり、食中毒の発生が心配さ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次のことを必ず守りましょう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www.jpnsport.go.jp/anzen/Portals/0/anzen/kenko/siryou/character2/m/M-04.png"/>
          <p:cNvPicPr/>
          <p:nvPr/>
        </p:nvPicPr>
        <p:blipFill>
          <a:blip r:embed="rId1"/>
          <a:stretch/>
        </p:blipFill>
        <p:spPr>
          <a:xfrm>
            <a:off x="4967280" y="7189920"/>
            <a:ext cx="1486080" cy="148572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1"/>
          <p:cNvGrpSpPr/>
          <p:nvPr/>
        </p:nvGrpSpPr>
        <p:grpSpPr>
          <a:xfrm>
            <a:off x="4375080" y="1143000"/>
            <a:ext cx="1646280" cy="1197000"/>
            <a:chOff x="4375080" y="1143000"/>
            <a:chExt cx="1646280" cy="1197000"/>
          </a:xfrm>
        </p:grpSpPr>
        <p:pic>
          <p:nvPicPr>
            <p:cNvPr id="45" name="Picture 8" descr="http://www.jpnsport.go.jp/anzen/Portals/0/anzen/kenko/siryou/character2/m/M-01.png"/>
            <p:cNvPicPr/>
            <p:nvPr/>
          </p:nvPicPr>
          <p:blipFill>
            <a:blip r:embed="rId2"/>
            <a:stretch/>
          </p:blipFill>
          <p:spPr>
            <a:xfrm>
              <a:off x="5003280" y="1320480"/>
              <a:ext cx="101808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http://www.jpnsport.go.jp/anzen/Portals/0/anzen/kenko/siryou/character2/m/M-02.png"/>
            <p:cNvPicPr/>
            <p:nvPr/>
          </p:nvPicPr>
          <p:blipFill>
            <a:blip r:embed="rId3"/>
            <a:stretch/>
          </p:blipFill>
          <p:spPr>
            <a:xfrm>
              <a:off x="4375080" y="1143000"/>
              <a:ext cx="1018080" cy="101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0" descr="http://www.jpnsport.go.jp/anzen/Portals/0/anzen/kenko/siryou/character2/m/M-43.png"/>
          <p:cNvPicPr/>
          <p:nvPr/>
        </p:nvPicPr>
        <p:blipFill>
          <a:blip r:embed="rId4"/>
          <a:stretch/>
        </p:blipFill>
        <p:spPr>
          <a:xfrm>
            <a:off x="3605040" y="608472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C:\Users\kumamoto\Desktop\illustration_article\手袋.jpg"/>
          <p:cNvPicPr/>
          <p:nvPr/>
        </p:nvPicPr>
        <p:blipFill>
          <a:blip r:embed="rId5"/>
          <a:stretch/>
        </p:blipFill>
        <p:spPr>
          <a:xfrm>
            <a:off x="1906560" y="3868560"/>
            <a:ext cx="855720" cy="801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C:\Users\kumamoto\Pictures\図1.png"/>
          <p:cNvPicPr/>
          <p:nvPr/>
        </p:nvPicPr>
        <p:blipFill>
          <a:blip r:embed="rId6"/>
          <a:stretch/>
        </p:blipFill>
        <p:spPr>
          <a:xfrm>
            <a:off x="1773360" y="2916360"/>
            <a:ext cx="2538360" cy="1892160"/>
          </a:xfrm>
          <a:prstGeom prst="rect">
            <a:avLst/>
          </a:prstGeom>
          <a:ln w="0">
            <a:noFill/>
          </a:ln>
        </p:spPr>
      </p:pic>
      <p:sp>
        <p:nvSpPr>
          <p:cNvPr id="50" name="角丸四角形吹き出し 5"/>
          <p:cNvSpPr/>
          <p:nvPr/>
        </p:nvSpPr>
        <p:spPr>
          <a:xfrm>
            <a:off x="4354560" y="2973240"/>
            <a:ext cx="1535040" cy="895320"/>
          </a:xfrm>
          <a:prstGeom prst="wedgeRoundRectCallout">
            <a:avLst>
              <a:gd name="adj1" fmla="val -90523"/>
              <a:gd name="adj2" fmla="val 62500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マス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鼻まできちんとおお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吹き出し 25"/>
          <p:cNvSpPr/>
          <p:nvPr/>
        </p:nvSpPr>
        <p:spPr>
          <a:xfrm>
            <a:off x="4356000" y="4179960"/>
            <a:ext cx="1535040" cy="896760"/>
          </a:xfrm>
          <a:prstGeom prst="wedgeRoundRectCallout">
            <a:avLst>
              <a:gd name="adj1" fmla="val -105416"/>
              <a:gd name="adj2" fmla="val -16083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清潔な衣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吹き出し 26"/>
          <p:cNvSpPr/>
          <p:nvPr/>
        </p:nvSpPr>
        <p:spPr>
          <a:xfrm>
            <a:off x="711360" y="2967120"/>
            <a:ext cx="1535040" cy="896760"/>
          </a:xfrm>
          <a:prstGeom prst="wedgeRoundRectCallout">
            <a:avLst>
              <a:gd name="adj1" fmla="val 65884"/>
              <a:gd name="adj2" fmla="val 43384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い捨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手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7"/>
          <p:cNvSpPr/>
          <p:nvPr/>
        </p:nvSpPr>
        <p:spPr>
          <a:xfrm>
            <a:off x="333360" y="2106720"/>
            <a:ext cx="3240000" cy="520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身だしなみをととのえ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29"/>
          <p:cNvSpPr/>
          <p:nvPr/>
        </p:nvSpPr>
        <p:spPr>
          <a:xfrm>
            <a:off x="189000" y="5346720"/>
            <a:ext cx="3031920" cy="520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体調をととのえ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角丸四角形 30"/>
          <p:cNvSpPr/>
          <p:nvPr/>
        </p:nvSpPr>
        <p:spPr>
          <a:xfrm>
            <a:off x="3540240" y="5346720"/>
            <a:ext cx="3152520" cy="520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配食の前に手をよく洗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グループ化 21"/>
          <p:cNvGrpSpPr/>
          <p:nvPr/>
        </p:nvGrpSpPr>
        <p:grpSpPr>
          <a:xfrm>
            <a:off x="356040" y="6492960"/>
            <a:ext cx="2982240" cy="2400120"/>
            <a:chOff x="356040" y="6492960"/>
            <a:chExt cx="2982240" cy="2400120"/>
          </a:xfrm>
        </p:grpSpPr>
        <p:pic>
          <p:nvPicPr>
            <p:cNvPr id="57" name="Picture 16" descr="http://www.jpnsport.go.jp/anzen/Portals/0/anzen/kenko/siryou/character2/m/M-41.png"/>
            <p:cNvPicPr/>
            <p:nvPr/>
          </p:nvPicPr>
          <p:blipFill>
            <a:blip r:embed="rId7"/>
            <a:stretch/>
          </p:blipFill>
          <p:spPr>
            <a:xfrm>
              <a:off x="356040" y="7095240"/>
              <a:ext cx="1240560" cy="12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8" descr="http://www.jpnsport.go.jp/anzen/Portals/0/anzen/kenko/siryou/character2/m/M-40.png"/>
            <p:cNvPicPr/>
            <p:nvPr/>
          </p:nvPicPr>
          <p:blipFill>
            <a:blip r:embed="rId8"/>
            <a:stretch/>
          </p:blipFill>
          <p:spPr>
            <a:xfrm>
              <a:off x="1176120" y="6492960"/>
              <a:ext cx="108828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9" descr="http://www.jpnsport.go.jp/anzen/Portals/0/anzen/kenko/siryou/character2/m/M-56.png"/>
            <p:cNvPicPr/>
            <p:nvPr/>
          </p:nvPicPr>
          <p:blipFill>
            <a:blip r:embed="rId9"/>
            <a:stretch/>
          </p:blipFill>
          <p:spPr>
            <a:xfrm>
              <a:off x="1176120" y="7640280"/>
              <a:ext cx="125316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2" descr="C:\Users\kumamoto\Pictures\1244385907[1].jpg"/>
            <p:cNvPicPr/>
            <p:nvPr/>
          </p:nvPicPr>
          <p:blipFill>
            <a:blip r:embed="rId10"/>
            <a:stretch/>
          </p:blipFill>
          <p:spPr>
            <a:xfrm>
              <a:off x="2103120" y="7166880"/>
              <a:ext cx="59184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直線コネクタ 10"/>
            <p:cNvSpPr/>
            <p:nvPr/>
          </p:nvSpPr>
          <p:spPr>
            <a:xfrm>
              <a:off x="946080" y="6851520"/>
              <a:ext cx="1641600" cy="1414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35"/>
            <p:cNvSpPr/>
            <p:nvPr/>
          </p:nvSpPr>
          <p:spPr>
            <a:xfrm flipV="1">
              <a:off x="893520" y="6827400"/>
              <a:ext cx="1549440" cy="1438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20"/>
            <p:cNvSpPr/>
            <p:nvPr/>
          </p:nvSpPr>
          <p:spPr>
            <a:xfrm>
              <a:off x="577080" y="83361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腹痛・下痢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45"/>
            <p:cNvSpPr/>
            <p:nvPr/>
          </p:nvSpPr>
          <p:spPr>
            <a:xfrm>
              <a:off x="1905840" y="6544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嘔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46"/>
            <p:cNvSpPr/>
            <p:nvPr/>
          </p:nvSpPr>
          <p:spPr>
            <a:xfrm>
              <a:off x="2201040" y="84355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発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47"/>
            <p:cNvSpPr/>
            <p:nvPr/>
          </p:nvSpPr>
          <p:spPr>
            <a:xfrm>
              <a:off x="2730960" y="7883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指のけ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テキスト ボックス 22"/>
          <p:cNvSpPr/>
          <p:nvPr/>
        </p:nvSpPr>
        <p:spPr>
          <a:xfrm>
            <a:off x="1634760" y="604836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こんなときは、配食できません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角丸四角形吹き出し 51"/>
          <p:cNvSpPr/>
          <p:nvPr/>
        </p:nvSpPr>
        <p:spPr>
          <a:xfrm>
            <a:off x="5091120" y="6051600"/>
            <a:ext cx="1601640" cy="896760"/>
          </a:xfrm>
          <a:prstGeom prst="wedgeRoundRectCallout">
            <a:avLst>
              <a:gd name="adj1" fmla="val -72523"/>
              <a:gd name="adj2" fmla="val 31703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石けんを使ってしっかり洗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角丸四角形吹き出し 52"/>
          <p:cNvSpPr/>
          <p:nvPr/>
        </p:nvSpPr>
        <p:spPr>
          <a:xfrm>
            <a:off x="3540240" y="7932600"/>
            <a:ext cx="1600200" cy="897120"/>
          </a:xfrm>
          <a:prstGeom prst="wedgeRoundRectCallout">
            <a:avLst>
              <a:gd name="adj1" fmla="val 67259"/>
              <a:gd name="adj2" fmla="val -15023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手洗い後は、消毒液を使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02:53:46Z</dcterms:created>
  <dc:creator>kumamoto</dc:creator>
  <dc:description/>
  <dc:language>en-US</dc:language>
  <cp:lastModifiedBy>kumamoto</cp:lastModifiedBy>
  <cp:lastPrinted>2016-06-07T10:49:54Z</cp:lastPrinted>
  <dcterms:modified xsi:type="dcterms:W3CDTF">2017-03-29T02:15:41Z</dcterms:modified>
  <cp:revision>11</cp:revision>
  <dc:subject/>
  <dc:title>配食をされる方へのお願いです。</dc:title>
</cp:coreProperties>
</file>